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C101-6FA5-4291-AC47-7063F76EB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C435-BD04-4B0D-AC6C-C6D616021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4486-F1F3-4444-AEFC-09BD851E2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0F0C-98BF-4AFB-BD8E-C5B3591C7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C5C57-F670-4B3F-9682-2AB411544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14D12-326D-42DE-9D90-AD28B8D02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BB380-4BF1-4CE0-A1EF-87BF93794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7550E-854D-4B8C-A921-EA3AB7409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47C18-BEA1-4D6D-8656-B573D3508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B18B3-3B35-4D2E-B8EE-3F28F7E04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45AD4-6AF0-49DE-A2E3-B96FFD532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5AE7-F95C-4DD1-A65F-38055B5EA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2E876-D8E1-4A9B-92DA-3773F96DF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8CD15-F103-474C-BE04-3ED393F90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43BBF-488C-4C07-867A-F2CD9A44A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9A3ED-189A-4F8D-AE4A-3A759ADB6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A5E52-6576-449C-88D3-C49837713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75BB-8EE3-4C48-890E-90B83BCD0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E5DD-B510-431A-B48D-C57F5F90D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9ACC-BB39-40EA-B402-6F6C695F4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00B4-D80B-4D11-BAAF-35E31A18D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92F3-958A-41A5-82FF-43B2492EB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3D1A-B295-4685-8A2C-E09AE5971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7989-3ECB-461B-9C23-F97E00FF9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eff58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eff58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F664F-ED7A-4A14-9171-8E4326F861B9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2B059-B96A-40FC-A453-C33833BAA334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eff58"/>
              </a:buClr>
              <a:buSzPct val="8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8229600" cy="259056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Gill Sans Light"/>
              </a:rPr>
              <a:t>Extermination of the Jews</a:t>
            </a:r>
            <a:br>
              <a:rPr sz="5000"/>
            </a:br>
            <a:br>
              <a:rPr sz="5000"/>
            </a:br>
            <a:r>
              <a:rPr b="0" lang="en-US" sz="3300" spc="-1" strike="noStrike">
                <a:solidFill>
                  <a:srgbClr val="ffffff"/>
                </a:solidFill>
                <a:latin typeface="Impact"/>
              </a:rPr>
              <a:t>What were Adolf Hitler's reasonings and strategies behind killing the Jews?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doni SvtyTwo OS ITC TT-Bold"/>
              </a:rPr>
              <a:t>By: Mallory Go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ef441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Leader of Nazis and Holocau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ef441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Occurred during WWI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XPLANATION- Why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ef441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Harsh childho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ef441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Loved violence and figh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ef441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gainst Jewish belief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ef441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ear of taking ov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ef441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Hated them from the st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XPLANATION- Tactic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ef441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Law against citizenshi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ef441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greg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ef441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Burned homes and synagog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ef441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Placed into concentration camp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AMP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ef441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Gas chambers and cremato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ef441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haved heads and given tatto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ef441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ldom food and wa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ef441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pread of disea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ef441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Death Mar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ef441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Death of over 6 million Jew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ef441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Considered largest “Mass Murder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ef441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uicide of Hitl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7T14:10:58Z</dcterms:created>
  <dc:creator>PA Department of Education</dc:creator>
  <dc:description/>
  <dc:language>en-US</dc:language>
  <cp:lastModifiedBy>PA Department of Education</cp:lastModifiedBy>
  <dcterms:modified xsi:type="dcterms:W3CDTF">2008-05-28T14:17:27Z</dcterms:modified>
  <cp:revision>16</cp:revision>
  <dc:subject/>
  <dc:title>Extermination of the Jews  What were Adolf Hitler's reasonings and strategies behind killing the Jews?  </dc:title>
</cp:coreProperties>
</file>